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9EC-A327-41D2-9C01-15EB9924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44B-9009-45E1-BC4D-E1DB319A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69F-569B-4AFC-B09E-0F11619F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C85-F1FB-46D5-BEDD-D8B54B14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B058-9769-44B1-B614-E02883F8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AA69-A812-45C0-84D3-6A7170BA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C6A5-5132-49B3-B609-AE93B8DE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24F7-A42D-48F5-8117-15963CED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8203-32EF-4410-8C4F-6B6225A1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E47A-CCD7-4AE8-8BE0-616E7C27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B05-708B-4811-8976-4CF22E1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B3A-2571-4601-A3BC-C7B090B6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3BF2-7B23-43A8-8D18-12A85E3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7010-7236-443E-AB71-AB864672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EB24-6E42-4646-88FF-2F1693D9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063-D56B-482F-92B2-48ABF968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864-2035-47E3-8B10-C91CC827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860-8318-4066-99C6-A18D84B0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CEF-5A3A-4CFD-88E3-EDEE6310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01F-6BCA-4BF8-B69D-8BB27FC9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086-9102-49E0-9053-908C4271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EE8-341D-45D0-BE90-DA4FF0F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338-1527-43E5-AA3C-A99B1E47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7B5-6F97-49FF-ABC2-85598C9F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615-64E5-4EE7-96FB-0E6BF4A3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3BB6-85C4-41D0-BA94-15735AB1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0996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Pronouns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24080" y="20574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665ac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8"/>
                </a:solidFill>
                <a:latin typeface="Impact"/>
              </a:rPr>
              <a:t>Choose one pronoun to finish each sentence.</a:t>
            </a:r>
            <a:endParaRPr b="0" lang="en-US" sz="40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Mom, Dad and ____ have a garden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Working in the garden is fun for ___</a:t>
            </a:r>
            <a:r>
              <a:rPr b="0" lang="en-US" sz="2800" spc="-1" strike="noStrike" u="sng">
                <a:solidFill>
                  <a:srgbClr val="000048"/>
                </a:solidFill>
                <a:uFillTx/>
                <a:latin typeface="Arial"/>
              </a:rPr>
              <a:t>_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ad helps _____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48"/>
                </a:solidFill>
                <a:uFillTx/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igs holes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48"/>
                </a:solidFill>
                <a:uFillTx/>
                <a:latin typeface="Arial"/>
              </a:rPr>
              <a:t>_____</a:t>
            </a: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water the garden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25520" y="1319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868720" y="22860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35680" y="43434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364480" y="327672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06360" y="5334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8"/>
                </a:solidFill>
                <a:latin typeface="Impact"/>
              </a:rPr>
              <a:t>Choose one pronoun to finish the sentence.</a:t>
            </a:r>
            <a:endParaRPr b="0" lang="en-US" sz="40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The sun shines on ______.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ometimes _______rains.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oon _______will see plants.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_____ plant seeds.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954320" y="15238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582720" y="26668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440080" y="38862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44440" y="5105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3:34:42Z</dcterms:created>
  <dc:creator>prussell</dc:creator>
  <dc:description/>
  <dc:language>en-US</dc:language>
  <cp:lastModifiedBy>teacher</cp:lastModifiedBy>
  <dcterms:modified xsi:type="dcterms:W3CDTF">2011-02-07T01:14:56Z</dcterms:modified>
  <cp:revision>5</cp:revision>
  <dc:subject/>
  <dc:title>Pronouns</dc:title>
</cp:coreProperties>
</file>